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31855"/>
        <c:axId val="86342394"/>
      </c:barChart>
      <c:catAx>
        <c:axId val="96531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42394"/>
        <c:crosses val="autoZero"/>
        <c:auto val="1"/>
        <c:lblAlgn val="ctr"/>
        <c:lblOffset val="100"/>
        <c:noMultiLvlLbl val="0"/>
      </c:catAx>
      <c:valAx>
        <c:axId val="86342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31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57C-08EF-47DE-8AB5-71DAF2A6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EF9-90C2-4964-A2EF-5C3EA63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4B4-D99D-4423-9F2A-47FAB198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8FD-8FD5-41F1-8D05-DCAF1859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476-77BE-4297-8122-7FA0BAD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B2E-80AC-4E1D-8AD1-5E92530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472-2EE2-4ED8-AB89-07651496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233-D170-472B-9110-21429787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7E9-AA9F-4738-AB67-58A18C41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C52-D7A4-4499-B8E7-3A8DA37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086-79AA-40A9-9FBF-C6894C7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9F0-8572-419A-8F1D-C67BD72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7DE5D-26A9-4531-9BAD-A38FB6A3F7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